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explode.wav" ContentType="audio/x-wav"/>
  <Override PartName="/ppt/media/image7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drumroll.wav" ContentType="audio/x-wav"/>
  <Override PartName="/ppt/media/image3.jpeg" ContentType="image/jpeg"/>
  <Override PartName="/ppt/media/image19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wind.wav" ContentType="audio/x-wav"/>
  <Override PartName="/ppt/media/image16.jpeg" ContentType="image/jpeg"/>
  <Override PartName="/ppt/media/image15.jpeg" ContentType="image/jpeg"/>
  <Override PartName="/ppt/media/image2.jpeg" ContentType="image/jpeg"/>
  <Override PartName="/ppt/media/push.wav" ContentType="audio/x-wav"/>
  <Override PartName="/ppt/media/laser.wav" ContentType="audio/x-wav"/>
  <Override PartName="/ppt/media/image14.jpeg" ContentType="image/jpeg"/>
  <Override PartName="/ppt/media/coin.wav" ContentType="audio/x-wav"/>
  <Override PartName="/ppt/media/image1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dt" idx="5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0BC9D-9333-48DE-9319-949FBB95062F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3D4C8-3336-4C37-841E-7DB94FC65CC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F9C8-DC2A-4A94-A55A-CCCBF4C38F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C196-2F62-4DC7-9018-E62B43B1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9017B-D3E7-4E79-8034-2E88CAE8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ACD2-68FE-4CE1-A940-734D3161F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32BC7-4CB5-48EB-9B0F-F949DAB5DA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FA567-FE12-4195-B33E-8EF10E45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E1C6E-03B3-47DA-A2BF-8F5E2127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4A84D-2EA6-4D8C-B7EE-B62A5905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BD095-EE01-49F4-A2CF-34E08CF0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6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3A243-39E5-48C0-8CA9-CEF56412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3C6FE-F072-4457-B7EF-331D6617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EFA9-EE83-4CE1-9E71-338254F9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00B23-94CB-451C-BD81-4798E086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68F9B-13F3-4BA1-9A69-933D8EFB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BB7AC-F2D5-4D1C-8930-A6E47B61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4DD65-DD94-416D-9CC2-FB9FC0F6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81976-74BA-4F32-9B72-C6443B3989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C44B9-1417-4366-AD6C-BA3EDC9A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3C64-1A5A-4B30-9F6D-F67FDCCC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4CDA-C80B-4D3F-BB0E-BD7962BD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6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37D7-35D8-4262-A689-FFCF8779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0D8F-010F-45E5-98DE-A3B80EEC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7C9A-4B0F-4AEA-AE3D-6B344B3B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3FD0-BA72-46DF-BCEF-41D79ADD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20652-D73B-4070-9DB5-E76D9B847830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>
                  <a:gd name="textAreaLeft" fmla="*/ 0 w 535320"/>
                  <a:gd name="textAreaRight" fmla="*/ 535680 w 5353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>
                  <a:gd name="textAreaLeft" fmla="*/ 0 w 1095480"/>
                  <a:gd name="textAreaRight" fmla="*/ 1095840 w 10954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>
                <a:gd name="textAreaLeft" fmla="*/ 0 w 1562400"/>
                <a:gd name="textAreaRight" fmla="*/ 1562760 w 156240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3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4CCB9-008D-4D86-B7BD-6843C80C39BA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5" Type="http://schemas.openxmlformats.org/officeDocument/2006/relationships/image" Target="../media/image3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google.com/imgres?imgurl=http://www.globalsecurity.org/wmd/library/news/russia/2000/russia/8-1.gif&amp;imgrefurl=http://www.globalsecurity.org/wmd/library/news/russia/2000/russia/part08.htm&amp;usg=__VLJEEk0K0adq1zSDiiuIYaoLYqo=&amp;h=304&amp;w=396&amp;sz=101&amp;hl=en&amp;start=4&amp;zoom=1&amp;itbs=1&amp;tbnid=tXgfUtJY3nenBM:&amp;tbnh=95&amp;tbnw=124&amp;prev=/images%3Fq%3Drussian%2Bpoverty%26hl%3Den%26gbv%3D2%26tbs%3Disch:1" TargetMode="External"/><Relationship Id="rId6" Type="http://schemas.openxmlformats.org/officeDocument/2006/relationships/image" Target="../media/image11.jpe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cus.org/files/images/russia-fla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2120" y="3600360"/>
            <a:ext cx="7772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The Present Day Is Always Tougher In Mother Russia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105520"/>
            <a:ext cx="64008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6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" y="35100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371600"/>
            <a:ext cx="82296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a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  <p:sndAc>
      <p:stSnd>
        <p:snd r:embed="rId6" name="explode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57200" y="-30492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7" name="push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9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51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2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2467080" cy="1857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867280" y="114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laser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3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65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fill="hold">
                      <p:stCondLst>
                        <p:cond delay="indefinite"/>
                      </p:stCondLst>
                      <p:childTnLst>
                        <p:par>
                          <p:cTn id="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dur="indefinite" fill="hold">
                      <p:stCondLst>
                        <p:cond delay="indefinite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4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9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0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0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4190760" cy="3200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lackadder ITC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lackadder ITC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362320" y="1447920"/>
            <a:ext cx="4190760" cy="3195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lus/>
    <p:sndAc>
      <p:stSnd>
        <p:snd r:embed="rId4" name="wind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dur="indefinite" fill="hold">
                      <p:stCondLst>
                        <p:cond delay="indefinite"/>
                      </p:stCondLst>
                      <p:childTnLst>
                        <p:par>
                          <p:cTn id="4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dur="indefinite" fill="hold">
                      <p:stCondLst>
                        <p:cond delay="indefinite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dur="indefinite" fill="hold">
                      <p:stCondLst>
                        <p:cond delay="indefinite"/>
                      </p:stCondLst>
                      <p:childTnLst>
                        <p:par>
                          <p:cTn id="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6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7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dur="indefinite" fill="hold">
                      <p:stCondLst>
                        <p:cond delay="indefinite"/>
                      </p:stCondLst>
                      <p:childTnLst>
                        <p:par>
                          <p:cTn id="4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33520" y="12193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Only 15% of the urban population breathes clean, safe ai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Factories put most of the toxic substances in riv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Elephant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Acid rain from Europe and Siberia has shortened the Siberian forests’ size by an estimated 730,000 hectares</a:t>
            </a:r>
            <a:r>
              <a:rPr b="0" lang="en-US" sz="3200" spc="-1" strike="noStrike">
                <a:solidFill>
                  <a:srgbClr val="ff9900"/>
                </a:solidFill>
                <a:latin typeface="Elephan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-1143000" y="6095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69999"/>
                </a:solidFill>
                <a:latin typeface="Snap ITC"/>
              </a:rPr>
              <a:t>Environmen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 rot="19620000">
            <a:off x="1415520" y="274140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 rot="19500000">
            <a:off x="1406160" y="2741400"/>
            <a:ext cx="64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is the title on the bottom??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 rot="19320000">
            <a:off x="3108240" y="27824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h I have an idea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6858000"/>
            <a:ext cx="4343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608796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98d3"/>
                </a:solidFill>
                <a:latin typeface="Verdana"/>
              </a:rPr>
              <a:t>???????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lu"/>
    <p:sndAc>
      <p:stSnd>
        <p:snd r:embed="rId2" name="coin.wav"/>
      </p:stSnd>
    </p:sndAc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dur="indefinite" fill="hold">
                      <p:stCondLst>
                        <p:cond delay="indefinite"/>
                      </p:stCondLst>
                      <p:childTnLst>
                        <p:par>
                          <p:cTn id="4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fill="hold">
                      <p:stCondLst>
                        <p:cond delay="indefinite"/>
                      </p:stCondLst>
                      <p:childTnLst>
                        <p:par>
                          <p:cTn id="4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dur="indefinite" fill="hold">
                      <p:stCondLst>
                        <p:cond delay="indefinite"/>
                      </p:stCondLst>
                      <p:childTnLst>
                        <p:par>
                          <p:cTn id="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dur="indefinite" fill="hold">
                      <p:stCondLst>
                        <p:cond delay="indefinite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dur="indefinite" fill="hold">
                      <p:stCondLst>
                        <p:cond delay="indefinite"/>
                      </p:stCondLst>
                      <p:childTnLst>
                        <p:par>
                          <p:cTn id="5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c5c000"/>
                </a:solidFill>
                <a:latin typeface="Forte"/>
              </a:rPr>
              <a:t>Last Fast Fact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600200"/>
            <a:ext cx="82296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Lowest recorded temperature is -93°C (THAT’S REALLY COLD!!!!)</a:t>
            </a:r>
            <a:r>
              <a:rPr b="0" lang="en-US" sz="2400" spc="-1" strike="noStrike">
                <a:solidFill>
                  <a:srgbClr val="cc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w Cen MT Condensed Extra Bold"/>
              </a:rPr>
              <a:t>In the winter, some of the land is in total darkness for over six months of the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Capital: Moscow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Largest City: Moscow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Area: 17, 075, 400 Square Kilometers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Official Languages: Russian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Government: Federal Republic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resident –Dmitry Medvedev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rime Minister – Vladmir Putin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Tw Cen MT"/>
              </a:rPr>
              <a:t>Population: 142, 400, 000 (2006 est.</a:t>
            </a:r>
            <a:r>
              <a:rPr b="0" lang="en-US" sz="2400" spc="-1" strike="noStrike">
                <a:solidFill>
                  <a:srgbClr val="ccff66"/>
                </a:solidFill>
                <a:latin typeface="Tw Cen M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055160"/>
                <a:tab algn="l" pos="1051236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push.wav"/>
      </p:stSnd>
    </p:sndAc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dur="indefinite" fill="hold">
                      <p:stCondLst>
                        <p:cond delay="indefinite"/>
                      </p:stCondLst>
                      <p:childTnLst>
                        <p:par>
                          <p:cTn id="5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dur="indefinite" fill="hold">
                      <p:stCondLst>
                        <p:cond delay="indefinite"/>
                      </p:stCondLst>
                      <p:childTnLst>
                        <p:par>
                          <p:cTn id="5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77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77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0" dur="77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dur="indefinite" fill="hold">
                      <p:stCondLst>
                        <p:cond delay="indefinite"/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dur="indefinite" fill="hold">
                      <p:stCondLst>
                        <p:cond delay="indefinite"/>
                      </p:stCondLst>
                      <p:childTnLst>
                        <p:par>
                          <p:cTn id="5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23880" y="1905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4379760" y="2743200"/>
            <a:ext cx="184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3049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is By: Peter Gagne, Ryan Lin, and Jason Ku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Hope you enjoyed it!!!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at’s a wrap!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was brought to you by: Mr. Griffith's Social Study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Sponsors: Mr. griffith and Mr. O'bri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ll our included information is from the “Glencoe Geography: the World and Its People” and images from Goog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s you can see, IT’s ALWAYS tougher in Russ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18288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i="1" lang="en-US" sz="9600" spc="-1" strike="noStrike" u="sng">
                <a:solidFill>
                  <a:srgbClr val="000000"/>
                </a:solidFill>
                <a:uFillTx/>
                <a:latin typeface="Script MT Bold"/>
              </a:rPr>
              <a:t>The     End!!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  <p:sndAc>
      <p:stSnd>
        <p:snd r:embed="rId1" name="applause.wav"/>
      </p:stSnd>
    </p:sndAc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dur="indefinite" fill="hold">
                      <p:stCondLst>
                        <p:cond delay="indefinite"/>
                      </p:stCondLst>
                      <p:childTnLst>
                        <p:par>
                          <p:cTn id="5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2" name="applaus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KUNG</cp:lastModifiedBy>
  <dcterms:modified xsi:type="dcterms:W3CDTF">2010-12-21T02:33:34Z</dcterms:modified>
  <cp:revision>29</cp:revision>
  <dc:subject/>
  <dc:title>Present Day Russia</dc:title>
</cp:coreProperties>
</file>